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92A-3D4B-49B5-B402-FE52C2EB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EC7-0F47-4145-8059-17CD8A9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459-AD61-45D2-B025-D87867E7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630-741A-490E-AF48-92F3D369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480C-9743-43E0-99FC-99F06AF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646B-E42B-482C-8BAD-430457E3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0C00-27A7-4E72-9F5B-E2BB4BB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BB4-785B-4A80-B570-924F9CA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0B5-B8B9-45AB-873D-EC299A73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4BB2-B3E8-420E-847B-114E65C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024E-A862-4E79-A73A-50D4147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28A-B516-4849-BFDF-2988DE39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3609-99DF-4706-97A9-81316A8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55A-28A0-478E-A31A-FA645C8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F13-7843-48CE-8153-8956644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DD2C-E93A-49DB-A45A-9A7164F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311-369A-4BB9-B985-E906436C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C31-FA77-48DE-9854-36CA0A0A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F5-1C2D-4AB3-BF2C-F8CBF37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A24-5962-47BC-9895-AAEBF98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83B-F8DA-4E22-BE61-1E71C5B4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2FC-61AE-4A85-8C46-78FFA63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4BD-460E-4A7A-855D-3FC1CCC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9D1-D188-4BF9-A2C2-1A8B75A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2B8B-5B3E-4628-9DB1-1A27024E2D60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4FD1-CF29-45A3-9B53-9414C4D23E08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Efektivní 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užití SW nástroje pro řízení projektů IP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an Vepřek, Ing. Jana Šubrtová, Ing. Martina Štajnerová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Manažerský dení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dstavuje sdílenou informační platformu  - na úrovni jednotlivých projektů i na úrovni IPRM jako celku umožňuje výměnu důležitých informací mezi projektovými manažery, techniky, vedení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nkrétně – jsou zde vedeny zápisy z týdenních porad vedení IPRM, včetně úkolů, termínů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sou zde zadávány důležité informace o průběhu realizace jednotlivých projektů (významné závěry z kontrolních dnů, změny v projektech, apo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Manažerský dení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880" y="1981080"/>
            <a:ext cx="7345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Manažerské výstup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 možné generovat  přehledné tabulky, zobrazující finanční data za etapy, projekty a vybrané agregace projektů, včetně exportů ve formátu .CS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 možné zobrazit harmonogramy projektů formou Gantova diagram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 možné zobrazit stěžejní data projektu na 1 obrazovce (viz následující ukázk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Manažerské výstup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Vystup_Financi_DenVystup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192800" cy="4100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2209680"/>
            <a:ext cx="160020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jek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438280"/>
            <a:ext cx="175284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Jan Nov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2666880"/>
            <a:ext cx="1752840" cy="152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Jana Novákov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429000"/>
            <a:ext cx="175248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rojek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hrnutí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st 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ddefinování sledovaných oblastí, které je násled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é kopírovat do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ch projek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í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je zajiš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a jednotná a shodná struktura dat 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 sledování v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šího p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u projek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tomatický výp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t dotace v rozlišení na jednotlivé zdroje financování dle zadaných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ro jednotlivé zdroje financ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hledné grafické znázor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í skute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sti versus plán formou Ganttova  dia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arovná hlášení 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 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kr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í termí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hrnutí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st sledovat údaje  v detailu 1 projektu nebo agregované údaje za skupinu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k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st exportu dat do MS Excel k dalšímu zpracování na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formou kontinge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ul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a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ský  nástroj pro komunikaci projektového týmu – evidence porad, evidence úkol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evidence zápis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evidence zpráv z kontrolních d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ap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ybra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enové projektové týmu mohou obsluhovat jen některé moduly a tudí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se nemusí seznamovat se všemi funkcionalitami programu (nap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zadávání faktur, zadávání harmonogra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zadávání zápis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z kontrolních d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informací pro porady vedení, apo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vě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ěkuji za pozorno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Rizika projektového řízení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reálné plá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dostatečné plánování projektu (čas, finance, zdro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dodržení časového harmonogramu projektu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kročení rozpoč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kutečnost se rozchází s plán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dostatečná kontrola postupu realiz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měny v projekte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dostatečná komunika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Omezení rizik implementace projektu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valitní plánování projektu (finance, zdroje, aktiv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jištěn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mezení pravomocí a zodpovědností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ém sdílení informací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stém monitoringu postupu realiza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sledná kontrola postupu realiza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jímání včasných a adekvátních opatření v případě zjištěných odchyle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Kvalitní SW nástroj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– významný pomocník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šechny výše uvedené aktivity  ke snížení rizik implementace projektu mohou být zajištěny kvalitním SW nástroj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ejména při řízení většího počtu  projektů v různých stadiích realizace je využití IS velmi efektivní a může výrazně omezit  výše popsaná rizik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S sám o sobě však není všelékem – důležité je také, jak  je využíván, kým je využíván, jaké informace obsahuje, zda jsou v IS informace včas, apo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W pro řízení projektů IP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 je koncipován jako s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ť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vá verze,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mo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ň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jící  vzájemnou spolupráci projektových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ým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 je napsán pro pros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í Microsoft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indows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E01561_" descr=""/>
          <p:cNvPicPr/>
          <p:nvPr/>
        </p:nvPicPr>
        <p:blipFill>
          <a:blip r:embed="rId1"/>
          <a:stretch/>
        </p:blipFill>
        <p:spPr>
          <a:xfrm>
            <a:off x="2133720" y="4038480"/>
            <a:ext cx="38210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Harmonogram realizace projekt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ožňuje sdílet podstatné informace o plánovaných a realizovaných aktivitách jednotlivých projekt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mo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ň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je sledovat a evidovat jednotlivé naplánované úkoly, jejich posloupnosti,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časové závislosti,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azby a pl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í. Upozor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ň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je v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  na 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kro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í termí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 nutnost zahájit po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bné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nosti, nebo 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jmout vhodné man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rské rozhodnutí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Harmonogram realizace projekt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4200" y="1828800"/>
            <a:ext cx="870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ůležitým modulem projektu jsou Fin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e mo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é  plánovat finance na úrovni etap projektu, na úrovni projektu jako celku, na úrovni skupin projek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sledovat související pl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í ze skute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é fakturace na všech výše uvedených úrovní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W upozorňuje i na úhradu faktur po splatnosti varovným hlášení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W umožňuje sledova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působilé výd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lkové výd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ši dotace ( případně ještě rozdělenou na jednotlivé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zdro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rámci finančního modulu je porovnávána plánovaná finanční alokace s dosaženou skutečností (fakturace) ke konkrétnímu datu, což spolu s časovým harmonogramem představuje jeden z nástrojů umožňujících včasnou detekci zpožďování skutečné realizace oproti plánu.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8:54:54Z</dcterms:created>
  <dc:creator>Jana Šubrtová</dc:creator>
  <dc:description/>
  <dc:language>en-US</dc:language>
  <cp:lastModifiedBy>Jana Šubrtová</cp:lastModifiedBy>
  <dcterms:modified xsi:type="dcterms:W3CDTF">2010-11-01T15:01:49Z</dcterms:modified>
  <cp:revision>4</cp:revision>
  <dc:subject/>
  <dc:title>   Efektivní řízení projektů</dc:title>
</cp:coreProperties>
</file>